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33A-1FE3-4486-BC10-FAA5BF33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C94-61DA-4ADB-8FDA-3C9E145C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3F0-A0A8-406B-918D-3BBD6B6E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962-0BDE-49E0-AB8E-21F29C49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AB8-1373-49AD-B5CB-3FB7EEC7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9BE-1170-4694-8AF3-8E5556F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813-7F0E-4A28-BB89-57185214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028-B0E8-42A3-ACF1-72E52924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8C9-1FCD-49AA-9F02-C1901DCF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E7B-08FA-4429-AA38-3903A462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5C1-17A7-41C7-A25B-CB3C7963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099-53C8-40E3-AA9A-79DCA002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9DF1-0F59-46C7-A761-2C530F22A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formation and use of the imperfect t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use logic to work out key terms related to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play hang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listen to a description of botel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 read about recent advances with botel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) To help each other give opinions on alcohol use and botel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78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7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bebida alco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l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n alcoholic drink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 de cop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go on a pub craw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orracha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get drun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resa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hangov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alc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hol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n alcohol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me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he breathalyser te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intoxicac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n alcohól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cohol poiso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r borra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be drun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toa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 los ef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the influe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abuso del alcoh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ssive drink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mbriagu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unkenes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r como una cuba (to be blind drun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b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alcoho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coholis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mi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be sic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borra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drun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oxicated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abstem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teetot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ber como una espo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drink like a fis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189000"/>
            <a:ext cx="3166920" cy="62096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bebida alcoh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r de co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borrach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res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alcóho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intoxicación alcoh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r borr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jo los ef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r como una 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m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borr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ber como una espo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333360"/>
            <a:ext cx="2736720" cy="606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o on a pub cra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d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hang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alcoholic d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t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alcoho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be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be drunk To be blind d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rink like a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the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ox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620640"/>
            <a:ext cx="2016360" cy="28447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is adivinar qué significan las palabras españo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ESCRIB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404640"/>
            <a:ext cx="76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sca los sinóni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o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v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leb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t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arm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l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un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umnos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549360"/>
            <a:ext cx="8209080" cy="366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¿Qué es el botell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¿Por qué puede ser peligro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¿Qué se puede hacer para combatir el uso de alcohol entre los jóve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¿Crees que se debería cambiar las leyes acerca de la publicidad del alcoho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3:03:18Z</dcterms:created>
  <dc:creator>Owner1</dc:creator>
  <dc:description/>
  <dc:language>en-US</dc:language>
  <cp:lastModifiedBy>Owner1</cp:lastModifiedBy>
  <dcterms:modified xsi:type="dcterms:W3CDTF">2008-11-06T18:07:25Z</dcterms:modified>
  <cp:revision>4</cp:revision>
  <dc:subject/>
  <dc:title>Slide 1</dc:title>
</cp:coreProperties>
</file>